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098F-5E3C-4D4A-92B0-625D239E7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1A5B-06F8-4F00-922D-91605DC6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0070-1D35-4FDA-9191-26B79F197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6035-E068-41A5-B90D-0F53552CD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8A2E-D1BA-44FE-84D8-2ECB1648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0E1C-17CB-4E6F-9D85-13962590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3FCB-4350-4ECF-A40B-06CE6786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7C89-FE98-4D1F-981E-4F16643D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0143-44B9-4E31-A371-1B808C25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DFF2-2A9B-494E-BA4B-7892A879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FEC2-F122-405F-B33C-4AEA8305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5B31-4E51-4880-AB43-EE7AAA10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A58B-9307-454B-B78D-17BD2501E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11401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533760" y="2492280"/>
            <a:ext cx="5610240" cy="3984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435640" y="3357720"/>
            <a:ext cx="1871640" cy="2404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44" name=""/>
          <p:cNvSpPr txBox="1"/>
          <p:nvPr/>
        </p:nvSpPr>
        <p:spPr>
          <a:xfrm>
            <a:off x="755640" y="260280"/>
            <a:ext cx="4248000" cy="10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 DECEMBRIE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867280" y="0"/>
            <a:ext cx="2845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Ziua naţională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a tutoror românilor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0" y="2249280"/>
            <a:ext cx="4356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,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1 decembrie 19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dunarea Națională de la Alba Iu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l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nstituită din 1228 delegați, și sprijinită de peste 100.000 de persoane adunate la eveniment din toate colțuri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dealulu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și Banatului, a adoptat o Rezoluțiune care consfințește unirea tuturor românilor din Transilvania și întreg Banatul cu Român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15:38:49Z</dcterms:created>
  <dc:creator> </dc:creator>
  <dc:description/>
  <dc:language>en-US</dc:language>
  <cp:lastModifiedBy> </cp:lastModifiedBy>
  <dcterms:modified xsi:type="dcterms:W3CDTF">2011-11-28T15:54:15Z</dcterms:modified>
  <cp:revision>2</cp:revision>
  <dc:subject/>
  <dc:title>Diapozitivul 1</dc:title>
</cp:coreProperties>
</file>